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500D9-06DF-439F-84BC-45C2A17A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EE45-B8A3-47EF-B329-D6A0AD2D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59B37-3069-41D6-9E25-9914D75C1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2D6D9-5398-4742-B91F-54A828DF4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1739A-AC9D-49D5-A00F-07ECC9B5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EEEE-46CD-43A7-BAC0-96AC58436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BCA37-20D2-4789-9768-AF93BC55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6F587-DBA2-4CFC-9501-4E8910EF6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BEFCF-55BF-4070-8984-9F01E076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C588D-9D99-4FF7-BF83-06958B7C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2C48-56BF-4533-B1FC-63BA7F60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B706-2941-4CAD-8F62-5AB2090BC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98C4-5A05-48BA-9072-EED06B665937}"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43Z</dcterms:modified>
  <cp:revision>46</cp:revision>
  <dc:subject/>
  <dc:title>SALARIUL</dc:title>
</cp:coreProperties>
</file>